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998-BF08-4D43-918F-2BB17BFD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E02-EB9D-4A44-98D0-FD6B30A7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9ED6-94D8-4AD7-A917-B3E5E259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1FC-1F44-4792-8CD1-76EFC5AA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556-5499-4F96-B7EB-B4182A97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DE3D-8EB4-447E-ADB6-C7E6EE64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8B7-D54E-43B3-92E1-59CD4F91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F5A5-CF26-4B6D-9E22-E8955F94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776-5996-4271-8B96-4E32793E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83C-671D-4693-8979-E51C96BB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8FB-1000-4B72-B502-9DCA52F3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B9C7-13C0-448A-BDB6-7DD9787E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944B-7D93-44FD-B36B-61080A969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fresh.snowboardermag.com/wp-content/uploads/gallery/2010-burton-snowboards/burton-custom-v-rocker-snowboard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ediamakersafrica.com/images/image/Compas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09080" cy="16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yan's self information tit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3295440" cy="3716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11640" y="3213000"/>
            <a:ext cx="4680000" cy="3275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00720" y="1844640"/>
            <a:ext cx="2592360" cy="1298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00000" y="2133720"/>
            <a:ext cx="46008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2060640"/>
            <a:ext cx="38098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121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26560" y="1557360"/>
            <a:ext cx="374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916280"/>
            <a:ext cx="1939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indic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3624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titu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ell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286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84720" y="1989000"/>
            <a:ext cx="39211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occu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At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381960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metro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langara col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pressure washing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03640" y="4149720"/>
            <a:ext cx="25207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15756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35280" y="1700280"/>
            <a:ext cx="43704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20:46:42Z</dcterms:created>
  <dc:creator>r.barwick</dc:creator>
  <dc:description/>
  <dc:language>en-US</dc:language>
  <cp:lastModifiedBy>r.barwick</cp:lastModifiedBy>
  <dcterms:modified xsi:type="dcterms:W3CDTF">2010-02-23T22:24:33Z</dcterms:modified>
  <cp:revision>5</cp:revision>
  <dc:subject/>
  <dc:title>Ryan's self information title page</dc:title>
</cp:coreProperties>
</file>